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2DD-9CE9-4A74-B613-E288D720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378-8040-4D55-AD94-4B713FE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CE4-15AE-4091-B206-E2DE13FB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FF9-4708-4EEF-A2D6-9B5261E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53E-743E-455E-AEDD-ADF26511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9F2-983D-4CDE-93E8-D37BB7E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45A-6198-42FE-9B7A-D583121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7B2-E0AD-4F06-8958-5D4E8F42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9FD-65D6-4B25-91AA-295A41C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5D6-F753-4DA2-8CBA-28DCACC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889-28DD-475D-937F-D2FDC0F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9B8-1C32-4BBB-A75B-F222E8D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2FCE-CFED-4262-A138-1A3D61B6C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37.xml"/><Relationship Id="rId5" Type="http://schemas.openxmlformats.org/officeDocument/2006/relationships/slide" Target="slide46.xml"/><Relationship Id="rId6" Type="http://schemas.openxmlformats.org/officeDocument/2006/relationships/hyperlink" Target="file:///&#30446;&#24405;.ppt" TargetMode="External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菜单、快捷键和控制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1981080"/>
            <a:ext cx="3352680" cy="34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动态生成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工具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状态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7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CmdUI-&gt;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En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CmdUI-&gt;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SetChec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COMM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响应菜单项的选择事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UPDATE_COMMAND_U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控制菜使用单项状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快捷菜单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跟踪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快捷菜单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IDR_POPUP_ME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up1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ption                           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矩形坐标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椭圆坐标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显示快捷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ass Name     ObjectsIDs    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ainFrame       CMainFrame      WM_CONTEXT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40" y="1574640"/>
            <a:ext cx="9128160" cy="5340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oid CMainFrame::OnContextMenu(CWnd* pWnd, CPoint poi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/ TODO: Add your message handler cod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enu me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f(menu.LoadMenu(IDR_POPUP_MENU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enu *pPopup=menu.GetSubMenu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opup-&gt;TrackPopupMenu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PM_LEFTALIGN|TPM_RIGHTBUTT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 point.x, point.y,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显示快捷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)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辑对话框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81480" y="1066680"/>
          <a:ext cx="35816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066680"/>
                    <a:ext cx="3581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3276720"/>
            <a:ext cx="6629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静态文本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STATI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左上角坐标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静态文本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STATI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右下角坐标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Y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Y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扭控件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O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确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扭控件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ANCE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取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对话框添加控件关联变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Y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X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Y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主框架中加入变量并初始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Bott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Bott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40" y="1219320"/>
            <a:ext cx="882324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::CMain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member initializ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Left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Top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Right = 2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Bottom = 1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Left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Top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Right = 2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Bottom = 1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" y="1135080"/>
            <a:ext cx="88236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pMainFrame = (CMainFrame *) AfxGetApp()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Rectangle(pMainFrame-&gt;m_nRectLeft,pMainFrame-&gt;m_nRectTo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ainFrame-&gt;m_nRectRight,pMainFrame-&gt;m_nRectBottom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pMainFrame = (CMainFrame *) AfxGetApp()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Ellipse(pMainFrame-&gt;m_nCircleLeft,pMainFrame-&gt;m_nCircleTo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ainFrame-&gt;m_nCircleRight,pMainFrame-&gt;m_nCircleBottom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画图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响应菜单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制菜单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快捷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990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菜单消息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" y="1758960"/>
            <a:ext cx="729936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Edit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 dl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Edit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 dl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16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修改构造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720" y="1219320"/>
            <a:ext cx="7375680" cy="4505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::CDlgEdit(int type, CWnd* pParent /*=NULL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CDialog(CDlgEdit::IDD, pPar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{{AFX_DATA_INIT(CDlgEd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X1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X2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Y1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Y2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}}AFX_DATA_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m_nType = typ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33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确定命令按扭响应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O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6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" y="76320"/>
            <a:ext cx="7452000" cy="6562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DlgEdit::OnOK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dateData(TRU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MainFrame *pMainFrame = (CMainFrame *) AfxGetApp()-&gt;GetMainW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(m_nType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Left   = m_nX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Top    = m_nY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Right  = m_nX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Bottom = m_nY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se if(m_nType ==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Left   = m_nX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Top    = m_nY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Right  = m_nX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Bottom = m_nY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OnContextM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enu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Load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TrackPopup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fxGetApp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inApp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的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ainWnd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动态菜单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菜单动态增加与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户自定义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态菜单消息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菜单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动态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菜单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菜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IDR_POPUP_MENU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两个菜单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ion                          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Sep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加椭圆控制菜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ADD_ME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椭圆控制菜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ELETE_ME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OnAdd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OnDelete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9968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AddMenu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enu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nu[0]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允许画椭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nu[1]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禁止画椭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Wnd *pMainFrame=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Dyna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TopMenu=pMainFrame-&gt;GetMenu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TopMenu-&gt;GetMenuItemCount()-1; iPos&gt;=0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=pTopMenu-&gt;GetSubMenu(i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Menu &amp;&amp; pMenu-&gt;GetMenuItemID(0)==ID_DRAW_R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=pMen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MenuDyna-&gt;GetMenuItemCount()-1; iPos&gt;=5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DeleteMenu(iPos,MF_BY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i&lt;2;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AppendMenu(MF_STRING, WM_USER+10+i, menu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7746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DeleteMenu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Wnd *pMainFrame=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Dyna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TopMenu=pMainFrame-&gt;GetMenu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TopMenu-&gt;GetMenuItemCount()-1; iPos&gt;=0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=pTopMenu-&gt;GetSubMenu(i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Menu &amp;&amp; pMenu-&gt;GetMenuItemID(0)==ID_DRAW_R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=pMen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MenuDyna-&gt;GetMenuItemCount()-1; iPos&gt;=5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DeleteMenu(iPos,MF_BY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入菜单消息处理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增加一个变量并初始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t m_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_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，第一项为选中状态，允许画椭圆。否则第二项为选中状态，禁止画椭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19640"/>
            <a:ext cx="8153280" cy="3006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ainFrame::CMainFr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TODO: add member initialization cod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electMenu 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载主框架类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nu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bjects I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40" y="15840"/>
            <a:ext cx="9128160" cy="7746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MainFrame::OnCmdMsg(UINT nID, int nCode, void* pExt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CMDHANDLERINFO* pHandlerInf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HandlerInfo==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 i&lt;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ID==(UINT) (WM_USER+10+i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Code==CN_COMM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SelectMenu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nCode==CN_UPDATE_COMMAND_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UpdateSelectMenu(i,(CCmdUI *) pExtr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CFrameWnd::OnCmdMsg(nID, nCode, pExtra, pHandlerInf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中增加两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Update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276720"/>
            <a:ext cx="8153280" cy="2195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DoSelectMenu(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SelectMenu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523880"/>
            <a:ext cx="8915400" cy="3260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DoUpdateSelectMenu(int i, CCmdUI *pCmdU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==m_nSelectM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SetCheck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SetCheck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tru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椭圆菜单项加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PDATE_COMMAND_U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286000"/>
            <a:ext cx="8610480" cy="3816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OnUpdateDrawCircle(CCmdUI* pCmdU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TODO: Add your command update UI handler cod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m_nSelectMenu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n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(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ItemCount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ItemID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Delete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ppend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定义工具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工具条中添加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工具条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创建工具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工具条上添加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控件响应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工具条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33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工具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IDR_MYTOOLBAR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0" y="3886200"/>
          <a:ext cx="14000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86200"/>
                    <a:ext cx="14000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55480" y="26668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304812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66688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742840" y="3048120"/>
            <a:ext cx="15238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6120" y="470844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523880" y="4190760"/>
            <a:ext cx="1371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7440" y="47242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COMBO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200400" y="4114440"/>
            <a:ext cx="8380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209680"/>
            <a:ext cx="228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具条含四个工具按扭，其中前两个与菜单“画图”的前两个菜单项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相同，第三个按扭用于画直线，第四个按扭用来显示组合框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Menu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单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ing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工具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定义工具条数据成员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ToolBar  m_wndMyTool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函数中加入以下代码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1600200"/>
            <a:ext cx="89154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m_wndMyToolBar.CreateEx(this, TBSTYLE_FLAT, WS_CHILD | WS_VISIBLE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RS_TO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| CBRS_GRIPPER | CBRS_TOOLTIPS | CBRS_FLYBY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RS_SIZE_DYNAMIC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m_wndMyToolBar.LoadToolBar(IDR_MYTOOLBA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0("Failed to create toolba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      // fail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EnableDocking(CBRS_ALIGN_A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ableDocking(CBRS_ALIGN_A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ckControlBar(&amp;m_wndMyToolB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工具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画线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268360"/>
            <a:ext cx="83818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Lin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20, 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200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工具条上添加控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定义数据成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ComboBox   m_ComboBo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中加入代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981080"/>
            <a:ext cx="86868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SetButtonInfo(3,ID_COMBOBOX,TBBS_SEPARATOR,16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GetItemRect(3,&amp;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ct.bottom +=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!m_ComboBox.Create(CBS_DROPDOWNLIST | WS_VISIBL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_TABSTOP | CBS_AUTOHSCROLL, rect, &amp;m_wndMyToolBa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_COMBOBOX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First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Second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Third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SetCurSel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加入组合框响应函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位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类的定义处，在其中添加消息响应函数的原形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afx_msg void OnSelchangeCombo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位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消息映射宏的定义处，在其中添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boBo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_CBNSELCHANG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息的映射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ON_CBN_SELCHANGE(ID_COMBOBOX,OnSelchangeCom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加入组合框响应函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添加消息映射函数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828800"/>
            <a:ext cx="815328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SelchangeComb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urS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urSel = m_ComboBox.GetCurS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您选择了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No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CurSel,No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+= 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+= "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mess,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消息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,MB_OK | MB_ICONINFORMATION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ToolBa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CreateEx(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ButtonInfo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GetItemRect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ComboBox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reate 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ddString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etCurSel 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工添加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状态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状态信息行显示信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状态指示器 显示键盘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，找到状态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组的定义处添加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状态指示器的字符串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状态条添加标识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::OnCreat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中，添加状态条的设置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鼠标在视中的位置坐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组中添加新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80010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atic UINT indicators[]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SEPARATOR,             // status line ind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SEPARATOR,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SEPARATOR,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INDICATOR_CTRL,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键的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INDICATOR_SHIFT,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键的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CAP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NU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SCR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状态指示器的字符串资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21932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窗口中双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source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签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 T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打开字符串资源编辑器。选中一个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INDICA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开头的字符串资源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，插入两个新的字符串资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_INDICATOR_CTRL                  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_INDICATOR_SHIFT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hi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状态条添加标识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343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菜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ource Symb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，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ource Symbo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单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扭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输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IDC_STATUSB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默任值，单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资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图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                       ID                                  Prom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&amp;R)\tCtrl+R      ID_DRAW_RECT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视中画矩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椭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&amp;C)\tAlt+C       ID_DRAW_CIRCLE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视中画椭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快捷键资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odifie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RECT     Ctr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CIRCL    Alt     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::OnCreat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中，添加状态条的设置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981080"/>
            <a:ext cx="830556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m_wndStatusBar.Create(this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m_wndStatusBar.SetIndicators(indicato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zeof(indicators)/sizeof(UINT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0("Failed to create status ba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      // fail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wndStatusBar.SetPaneInfo(1,IDC_STATUSBAR,SBPS_POPOUT,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wndStatusBar.SetPaneInfo(2,IDC_STATUSBAR,SBPS_POPOUT,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360" y="106668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的类定义内加入消息响应函数的原形，并将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wndStatusB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公用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905120"/>
            <a:ext cx="670572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atusBar  m_wndStatus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msg void OnUpdateKeyCtrl(CCmdUI *pCmdU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msg void OnUpdateKeyShift(CCmdUI *pCmdU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8920" y="4343400"/>
            <a:ext cx="62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映射宏的定义处添加两消息映射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168880"/>
            <a:ext cx="7315200" cy="10782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ON_UPDATE_COMMAND_UI(ID_INDICATOR_CTRL,OnUpdateKeyCt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ON_UPDATE_COMMAND_UI(ID_INDICATOR_SHIFT,OnUpdateKey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360" y="106668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添加消息映射函数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905120"/>
            <a:ext cx="670572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UpdateKeyCtrl(CCmdUI *pCmd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::GetKeyState(VK_CONTROL)&lt;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UpdateKeyShift(CCmdUI *pCmd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::GetKeyState(VK_SHIFT)&lt;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鼠标在视中的位置坐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360" y="106668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添加鼠标移动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905120"/>
            <a:ext cx="815328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MouseMove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har PositionString[2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MainFrame=(CMainFrame *) 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printf(PositionString,"X:%d",point.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ainFrame-&gt;m_wndStatusBar.SetPaneText(1,Position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printf(PositionString,"y:%d",point.y);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ainFrame-&gt;m_wndStatusBar.SetPaneText(2,Position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StatusBa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PaneInfo(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Indicators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PaneText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GetKeyState(VK_SHIFT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537320" y="640080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加入菜单消息处理函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ID_DRAW_RECT      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ID_DRAW_ CIRCLE 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800160"/>
            <a:ext cx="41148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Rectangle(50,50,200,150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809880"/>
            <a:ext cx="38862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Ellipse(250,50,400,150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画图 菜单中再添加两个菜单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                 ID                                Pro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画矩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RAW_ENABLE     -------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止画矩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RAW_DISABLE    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视类中添加一个记录当前“矩形”菜单项状态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  m_En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数据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En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 Enable =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 菜单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ENABLE     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 DISABLE   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RECT        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ENABLE  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 DISABLE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800600"/>
            <a:ext cx="861048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Rect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m_En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838080"/>
            <a:ext cx="45720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Disab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nable = FALSE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838080"/>
            <a:ext cx="39625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void CMenuTestView::OnDrawEnab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_Enable = TRUE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819520"/>
            <a:ext cx="86868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Enable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SetCheck(m_Enable ? 1: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800600"/>
            <a:ext cx="868680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Disable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SetCheck(m_Enable ? 0: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4:42Z</dcterms:modified>
  <cp:revision>92</cp:revision>
  <dc:subject/>
  <dc:title>第四章   菜单、快捷键和控制条 </dc:title>
</cp:coreProperties>
</file>